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922-D800-47A4-8574-F929BA00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896-E836-4C29-A7EA-33D0AEA3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2C64-64C8-4665-8D6D-3B594E13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B82-CD40-411B-88D0-06D5D612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324-4B6D-4233-A3E4-B549A2C9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0F4-B50F-424E-A964-1BABCF67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741-3253-4384-BCB7-A2A8D3F9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1A84-0391-44E5-AB88-C7C4D94F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FF88-51EA-435E-A989-119C1D05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954-6080-48CF-8D0C-1B51EAA1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AA27-5912-411D-934E-1D4F9D5B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BF6-55A1-4935-A719-34E68912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95E1-DC08-4B4D-BD7E-0D1A3B1664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213012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чему благодаря реформам Солона в Афинах стала  зарождаться демократия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Задан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прочитать текст документа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ответить на вопросы к тексту докумен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одзаголовок 2"/>
          <p:cNvSpPr/>
          <p:nvPr/>
        </p:nvSpPr>
        <p:spPr>
          <a:xfrm>
            <a:off x="533520" y="9144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колько классов было разделено население Солон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новый орган власти создал Соло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чему в документе народ назван властелином государств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ак в законах Солона решали вопрос о долгах насе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Что говорится в законах Солона о суд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ша задача найти в тексте учебника основное содержание закона и вписать его  в таблицу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76280" y="3505320"/>
            <a:ext cx="8667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ародное собра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орган, который реша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жные государственные де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Граждане 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 свободные жители Аф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rectole0000000002"/>
          <p:cNvGraphicFramePr/>
          <p:nvPr/>
        </p:nvGraphicFramePr>
        <p:xfrm>
          <a:off x="457200" y="152280"/>
          <a:ext cx="838188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rectole000000000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83818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AutoShape 6"/>
          <p:cNvSpPr/>
          <p:nvPr/>
        </p:nvSpPr>
        <p:spPr>
          <a:xfrm>
            <a:off x="533520" y="1143000"/>
            <a:ext cx="198108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13012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чему благодаря реформам Солона в Афинах стала зарождаться демократия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71440"/>
            <a:ext cx="8991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емократия – это …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рган, который решал важные государственные дела?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В 594 г. до н.э….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лон отменил……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олон провёл реформы…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Демократия – власть народ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Народное собра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В 594 г. до н.э. знать и демос сообща избрали Солона архонтом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Солон отменил долговое рабство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. Солон провёл реформы управления и реформу с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ритерии оцени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правильных ответов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правильных ответа –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ых ответа –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«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-360" y="11430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0 чи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развернутый ответ на вопрос: «Почему благодаря реформам Солона в Афинах стала зарождаться  демократия?»;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для любознательных: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прочитайте рассказ Геродота «Солон и лидийский царь Крез» и ответьте на вопрос: «Почему царь Лидийского царства Крез назвал Солона совершенно глупым человеко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85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Демократия – власть народ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09600" y="990720"/>
            <a:ext cx="883440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рождение демократии в Афина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77921f506c07650f8d0b3649086342d6"/>
          <p:cNvPicPr/>
          <p:nvPr/>
        </p:nvPicPr>
        <p:blipFill>
          <a:blip r:embed="rId1"/>
          <a:stretch/>
        </p:blipFill>
        <p:spPr>
          <a:xfrm>
            <a:off x="1251000" y="0"/>
            <a:ext cx="664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6-1"/>
          <p:cNvPicPr/>
          <p:nvPr/>
        </p:nvPicPr>
        <p:blipFill>
          <a:blip r:embed="rId1"/>
          <a:stretch/>
        </p:blipFill>
        <p:spPr>
          <a:xfrm>
            <a:off x="304920" y="0"/>
            <a:ext cx="868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селение Аттики в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ке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своб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лжники   чужеземцы       знатные          дем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219320" y="1143000"/>
            <a:ext cx="1295280" cy="1523880"/>
          </a:xfrm>
          <a:prstGeom prst="downArrow">
            <a:avLst>
              <a:gd name="adj1" fmla="val 50000"/>
              <a:gd name="adj2" fmla="val 29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943600" y="1143000"/>
            <a:ext cx="1371600" cy="1447920"/>
          </a:xfrm>
          <a:prstGeom prst="downArrow">
            <a:avLst>
              <a:gd name="adj1" fmla="val 50000"/>
              <a:gd name="adj2" fmla="val 263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762120" y="3429000"/>
            <a:ext cx="457200" cy="990720"/>
          </a:xfrm>
          <a:prstGeom prst="downArrow">
            <a:avLst>
              <a:gd name="adj1" fmla="val 50000"/>
              <a:gd name="adj2" fmla="val 54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7848720" y="3352680"/>
            <a:ext cx="457200" cy="990720"/>
          </a:xfrm>
          <a:prstGeom prst="downArrow">
            <a:avLst>
              <a:gd name="adj1" fmla="val 50000"/>
              <a:gd name="adj2" fmla="val 54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2895480" y="3581280"/>
            <a:ext cx="381240" cy="914400"/>
          </a:xfrm>
          <a:prstGeom prst="downArrow">
            <a:avLst>
              <a:gd name="adj1" fmla="val 50000"/>
              <a:gd name="adj2" fmla="val 59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5410080" y="327672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мос восстает против зна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209680" y="857160"/>
            <a:ext cx="47325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3657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594 году до н. э. знать и демос сообща избрали архонтом Солона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343400" y="457200"/>
            <a:ext cx="42688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блемы сложившиеся в Гре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18288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хватка земл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лговое рабство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счинство знати в управлении и су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1T09:58:45Z</dcterms:created>
  <dc:creator>16</dc:creator>
  <dc:description/>
  <dc:language>en-US</dc:language>
  <cp:lastModifiedBy>Галина Дмитриевна</cp:lastModifiedBy>
  <dcterms:modified xsi:type="dcterms:W3CDTF">2020-01-29T15:37:38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